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2BE4-3350-46D2-97DE-0D4ACD974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7161-78E9-4807-9FFB-BA8900E41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E63C-1D5B-4704-9117-25FE41684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52E3-8E24-493D-8E19-CBD6CF589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5647-6E08-4C30-AFD7-C4803FBDA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E7C1-72D6-4A1C-9CA3-985F6D907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05DE-BF5A-46DE-B285-E259B1F8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6E34-514C-4170-B8EB-82D9E856C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07DE-F649-4340-A530-11DFE1D00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C1E9-68F1-4836-A40F-79BAAB7D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1931-3D5A-4291-A2B2-704CB417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1B69-3421-4103-8762-9CA1B1EF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F102B-02DD-4A85-B7CA-5084F85B7452}" type="slidenum">
              <a:rPr b="0" lang="en-GB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P-x4VcmHfxU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b050"/>
                </a:solidFill>
                <a:latin typeface="Comic Sans MS"/>
              </a:rPr>
              <a:t>The Tsar’s Govern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" name="Picture 2" descr="http://upload.wikimedia.org/wikipedia/commons/5/59/Estandarte_Imperial_de_Rusia.png"/>
          <p:cNvPicPr/>
          <p:nvPr/>
        </p:nvPicPr>
        <p:blipFill>
          <a:blip r:embed="rId1"/>
          <a:stretch/>
        </p:blipFill>
        <p:spPr>
          <a:xfrm>
            <a:off x="900000" y="1557360"/>
            <a:ext cx="7143840" cy="47721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766800" y="2254320"/>
            <a:ext cx="1760400" cy="4343400"/>
          </a:xfrm>
          <a:prstGeom prst="rect">
            <a:avLst/>
          </a:prstGeom>
          <a:solidFill>
            <a:srgbClr val="948a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3747960" y="2254320"/>
            <a:ext cx="1862280" cy="4414680"/>
          </a:xfrm>
          <a:prstGeom prst="rect">
            <a:avLst/>
          </a:prstGeom>
          <a:solidFill>
            <a:srgbClr val="948a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6742080" y="2254320"/>
            <a:ext cx="1862280" cy="4414680"/>
          </a:xfrm>
          <a:prstGeom prst="rect">
            <a:avLst/>
          </a:prstGeom>
          <a:solidFill>
            <a:srgbClr val="948a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6"/>
          <p:cNvSpPr/>
          <p:nvPr/>
        </p:nvSpPr>
        <p:spPr>
          <a:xfrm>
            <a:off x="866880" y="476280"/>
            <a:ext cx="7637400" cy="171288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3708360" y="990720"/>
            <a:ext cx="2090880" cy="101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Tsar Nicho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utocr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866880" y="2425680"/>
            <a:ext cx="1522440" cy="316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alibri"/>
              </a:rPr>
              <a:t>Bureaucr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Government min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eac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Offic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nsp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e Ochr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3849840" y="2425680"/>
            <a:ext cx="1660320" cy="330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alibri"/>
              </a:rPr>
              <a:t>A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teamrolle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Noble Offic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easant sold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oorly equi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Under tr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6877080" y="2349360"/>
            <a:ext cx="1582560" cy="417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alibri"/>
              </a:rPr>
              <a:t>Russian Orthodox Chu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sar appointed by G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ealt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u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ersecute other religions (Jew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3"/>
          <p:cNvSpPr/>
          <p:nvPr/>
        </p:nvSpPr>
        <p:spPr>
          <a:xfrm>
            <a:off x="395280" y="404640"/>
            <a:ext cx="1584360" cy="916920"/>
          </a:xfrm>
          <a:prstGeom prst="rect">
            <a:avLst/>
          </a:prstGeom>
          <a:noFill/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opy this diagram into your j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4" descr="http://www.magicalmaths.org/wp-content/uploads/2012/11/conclusion-introduction-starter-plenary1.jpg"/>
          <p:cNvPicPr/>
          <p:nvPr/>
        </p:nvPicPr>
        <p:blipFill>
          <a:blip r:embed="rId1"/>
          <a:stretch/>
        </p:blipFill>
        <p:spPr>
          <a:xfrm rot="1093800">
            <a:off x="1784520" y="76320"/>
            <a:ext cx="601560" cy="6919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omic Sans MS"/>
              </a:rPr>
              <a:t>Tas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b05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Comic Sans MS"/>
              </a:rPr>
              <a:t>Explain the meaning of the word “Autocrat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601"/>
              </a:spcBef>
              <a:buClr>
                <a:srgbClr val="00b05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Comic Sans MS"/>
              </a:rPr>
              <a:t>According to the sources on your source sheet was Nicholas II’s character suited to the role of Tsar? Back up your answer by selecting 2 key points from each sour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601"/>
              </a:spcBef>
              <a:buClr>
                <a:srgbClr val="00b05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Comic Sans MS"/>
              </a:rPr>
              <a:t>What role did the bureaucracy play in governing Russia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601"/>
              </a:spcBef>
              <a:buClr>
                <a:srgbClr val="00b05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Comic Sans MS"/>
              </a:rPr>
              <a:t>What key problem did the Russian army have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601"/>
              </a:spcBef>
              <a:buClr>
                <a:srgbClr val="00b05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Comic Sans MS"/>
              </a:rPr>
              <a:t>How important was the Church is supporting Tsar Nicholas’ reign?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601"/>
              </a:spcBef>
              <a:buClr>
                <a:srgbClr val="00b05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601"/>
              </a:spcBef>
              <a:buClr>
                <a:srgbClr val="00b05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0" name="Picture 3" descr="http://www.clker.com/cliparts/K/0/N/F/h/W/task-md.png"/>
          <p:cNvPicPr/>
          <p:nvPr/>
        </p:nvPicPr>
        <p:blipFill>
          <a:blip r:embed="rId1"/>
          <a:stretch/>
        </p:blipFill>
        <p:spPr>
          <a:xfrm rot="1269600">
            <a:off x="5678640" y="135000"/>
            <a:ext cx="960120" cy="11224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s://encrypted-tbn1.gstatic.com/images?q=tbn:ANd9GcQcv8WUkhm7pMq4IL3JuoGWuvfCpezukDjXPJ7ZZfkGRbVOES_y"/>
          <p:cNvPicPr/>
          <p:nvPr/>
        </p:nvPicPr>
        <p:blipFill>
          <a:blip r:embed="rId1"/>
          <a:srcRect l="0" t="23077" r="0" b="22211"/>
          <a:stretch/>
        </p:blipFill>
        <p:spPr>
          <a:xfrm>
            <a:off x="3492360" y="260280"/>
            <a:ext cx="3167280" cy="1773360"/>
          </a:xfrm>
          <a:prstGeom prst="rect">
            <a:avLst/>
          </a:prstGeom>
          <a:ln w="0">
            <a:noFill/>
          </a:ln>
        </p:spPr>
      </p:pic>
      <p:sp>
        <p:nvSpPr>
          <p:cNvPr id="44" name="TextBox 3"/>
          <p:cNvSpPr/>
          <p:nvPr/>
        </p:nvSpPr>
        <p:spPr>
          <a:xfrm>
            <a:off x="324000" y="549360"/>
            <a:ext cx="8135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f81bd"/>
                </a:solidFill>
                <a:latin typeface="Comic Sans MS"/>
              </a:rPr>
              <a:t>Learning In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f81bd"/>
                </a:solidFill>
                <a:latin typeface="Comic Sans MS"/>
              </a:rPr>
              <a:t>By the end of this lesson you should be able describe the government under the Tsar and why it was important to keeping the Tsar in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611280" y="3789360"/>
            <a:ext cx="756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f81bd"/>
                </a:solidFill>
                <a:latin typeface="Comic Sans MS"/>
              </a:rPr>
              <a:t>Success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f81bd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4f81bd"/>
                </a:solidFill>
                <a:latin typeface="Comic Sans MS"/>
              </a:rPr>
              <a:t>Participate in class discu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f81bd"/>
                </a:solidFill>
                <a:latin typeface="Comic Sans MS"/>
              </a:rPr>
              <a:t>Answer questions in your jotter in full senten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http://photos1.blogger.com/blogger/3343/2251/1600/target%5b1%5d.jpg"/>
          <p:cNvPicPr/>
          <p:nvPr/>
        </p:nvPicPr>
        <p:blipFill>
          <a:blip r:embed="rId2"/>
          <a:stretch/>
        </p:blipFill>
        <p:spPr>
          <a:xfrm rot="609000">
            <a:off x="3492000" y="3357360"/>
            <a:ext cx="1943280" cy="14173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3"/>
          <p:cNvSpPr/>
          <p:nvPr/>
        </p:nvSpPr>
        <p:spPr>
          <a:xfrm>
            <a:off x="611280" y="836640"/>
            <a:ext cx="2665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Comic Sans MS"/>
              </a:rPr>
              <a:t>Tsar Nicholas II was an </a:t>
            </a:r>
            <a:r>
              <a:rPr b="0" lang="en-GB" sz="2400" spc="-1" strike="noStrike">
                <a:solidFill>
                  <a:srgbClr val="7030a0"/>
                </a:solidFill>
                <a:latin typeface="Comic Sans MS"/>
              </a:rPr>
              <a:t>Autocr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Comic Sans MS"/>
              </a:rPr>
              <a:t>This meant he had </a:t>
            </a:r>
            <a:r>
              <a:rPr b="0" lang="en-GB" sz="2400" spc="-1" strike="noStrike">
                <a:solidFill>
                  <a:srgbClr val="7030a0"/>
                </a:solidFill>
                <a:latin typeface="Comic Sans MS"/>
              </a:rPr>
              <a:t>complete control </a:t>
            </a:r>
            <a:r>
              <a:rPr b="0" lang="en-GB" sz="2400" spc="-1" strike="noStrike">
                <a:solidFill>
                  <a:srgbClr val="00b050"/>
                </a:solidFill>
                <a:latin typeface="Comic Sans MS"/>
              </a:rPr>
              <a:t>over how Russia was gove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Tsarist Russia"/>
          <p:cNvPicPr/>
          <p:nvPr/>
        </p:nvPicPr>
        <p:blipFill>
          <a:blip r:embed="rId1"/>
          <a:stretch/>
        </p:blipFill>
        <p:spPr>
          <a:xfrm>
            <a:off x="3851280" y="692280"/>
            <a:ext cx="4689360" cy="3313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Users\Natalie1990\AppData\Local\Microsoft\Windows\Temporary Internet Files\Content.IE5\OZ2DWKF8\MC900431548[1].png"/>
          <p:cNvPicPr/>
          <p:nvPr/>
        </p:nvPicPr>
        <p:blipFill>
          <a:blip r:embed="rId2"/>
          <a:stretch/>
        </p:blipFill>
        <p:spPr>
          <a:xfrm>
            <a:off x="971640" y="42210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6"/>
          <p:cNvSpPr/>
          <p:nvPr/>
        </p:nvSpPr>
        <p:spPr>
          <a:xfrm>
            <a:off x="3780000" y="5013360"/>
            <a:ext cx="47527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f81bd"/>
                </a:solidFill>
                <a:latin typeface="Comic Sans MS"/>
              </a:rPr>
              <a:t>Is this how our country is run to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Comic Sans MS"/>
                <a:hlinkClick r:id="rId1"/>
              </a:rPr>
              <a:t>http://www.youtube.com/watch?v=P-x4VcmHfx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2 minutes 10 second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3"/>
          <p:cNvSpPr/>
          <p:nvPr/>
        </p:nvSpPr>
        <p:spPr>
          <a:xfrm>
            <a:off x="250920" y="117360"/>
            <a:ext cx="86421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Comic Sans MS"/>
              </a:rPr>
              <a:t>However Nicholas was not a natural leader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000"/>
                </a:solidFill>
                <a:latin typeface="Comic Sans MS"/>
              </a:rPr>
              <a:t>Sourc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c000"/>
                </a:solidFill>
                <a:latin typeface="Comic Sans MS"/>
              </a:rPr>
              <a:t>What is going to happen to me, to all Russia? I am not ready to be the Tsar. I never wanted to become one. I know nothing of the business of ruling. I have no idea even how to talk to min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000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ffc000"/>
                </a:solidFill>
                <a:latin typeface="Comic Sans MS"/>
              </a:rPr>
              <a:t>Nicholas II, October 1894 on death of his fa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000"/>
                </a:solidFill>
                <a:latin typeface="Comic Sans MS"/>
              </a:rPr>
              <a:t>Source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c000"/>
                </a:solidFill>
                <a:latin typeface="Comic Sans MS"/>
              </a:rPr>
              <a:t>The gentle but uneducated Emperor...is weak on every point except his own autoc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c000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ffc000"/>
                </a:solidFill>
                <a:latin typeface="Comic Sans MS"/>
              </a:rPr>
              <a:t>Sir Alexander Nicholson, British Ambassador to </a:t>
            </a:r>
            <a:r>
              <a:rPr b="1" lang="en-GB" sz="2400" spc="-1" strike="noStrike">
                <a:solidFill>
                  <a:srgbClr val="ffc000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ffc000"/>
                </a:solidFill>
                <a:latin typeface="Comic Sans MS"/>
              </a:rPr>
              <a:t>Russia, 19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3"/>
          <p:cNvSpPr/>
          <p:nvPr/>
        </p:nvSpPr>
        <p:spPr>
          <a:xfrm>
            <a:off x="250920" y="549360"/>
            <a:ext cx="4608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Comic Sans MS"/>
              </a:rPr>
              <a:t>To help him govern his country, Nicholas relied on his </a:t>
            </a:r>
            <a:r>
              <a:rPr b="0" lang="en-GB" sz="2400" spc="-1" strike="noStrike">
                <a:solidFill>
                  <a:srgbClr val="7030a0"/>
                </a:solidFill>
                <a:latin typeface="Comic Sans MS"/>
              </a:rPr>
              <a:t>bureaucracy</a:t>
            </a:r>
            <a:r>
              <a:rPr b="0" lang="en-GB" sz="2400" spc="-1" strike="noStrike">
                <a:solidFill>
                  <a:srgbClr val="00b050"/>
                </a:solidFill>
                <a:latin typeface="Comic Sans MS"/>
              </a:rPr>
              <a:t>, the </a:t>
            </a:r>
            <a:r>
              <a:rPr b="0" lang="en-GB" sz="2400" spc="-1" strike="noStrike">
                <a:solidFill>
                  <a:srgbClr val="7030a0"/>
                </a:solidFill>
                <a:latin typeface="Comic Sans MS"/>
              </a:rPr>
              <a:t>army</a:t>
            </a:r>
            <a:r>
              <a:rPr b="0" lang="en-GB" sz="2400" spc="-1" strike="noStrike">
                <a:solidFill>
                  <a:srgbClr val="00b050"/>
                </a:solidFill>
                <a:latin typeface="Comic Sans MS"/>
              </a:rPr>
              <a:t> and the </a:t>
            </a:r>
            <a:r>
              <a:rPr b="0" lang="en-GB" sz="2400" spc="-1" strike="noStrike">
                <a:solidFill>
                  <a:srgbClr val="7030a0"/>
                </a:solidFill>
                <a:latin typeface="Comic Sans MS"/>
              </a:rPr>
              <a:t>Russian Orthodox Chu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Comic Sans MS"/>
              </a:rPr>
              <a:t>These three became known as the </a:t>
            </a:r>
            <a:r>
              <a:rPr b="0" lang="en-GB" sz="2400" spc="-1" strike="noStrike">
                <a:solidFill>
                  <a:srgbClr val="7030a0"/>
                </a:solidFill>
                <a:latin typeface="Comic Sans MS"/>
              </a:rPr>
              <a:t>“pillars” </a:t>
            </a:r>
            <a:r>
              <a:rPr b="0" lang="en-GB" sz="2400" spc="-1" strike="noStrike">
                <a:solidFill>
                  <a:srgbClr val="00b050"/>
                </a:solidFill>
                <a:latin typeface="Comic Sans MS"/>
              </a:rPr>
              <a:t>of the Tsarist government because without their support the Tsar would 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http://studentsforliberty.org/wp-content/uploads/2012/10/bureaucrat_2.jpeg"/>
          <p:cNvPicPr/>
          <p:nvPr/>
        </p:nvPicPr>
        <p:blipFill>
          <a:blip r:embed="rId1"/>
          <a:stretch/>
        </p:blipFill>
        <p:spPr>
          <a:xfrm>
            <a:off x="5867280" y="549360"/>
            <a:ext cx="2749680" cy="2995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https://encrypted-tbn3.gstatic.com/images?q=tbn:ANd9GcSzxnKfg8x9EsfpeqvedFuHYph3FU4mC077C1JJoYwxVMhiwX9W"/>
          <p:cNvPicPr/>
          <p:nvPr/>
        </p:nvPicPr>
        <p:blipFill>
          <a:blip r:embed="rId2"/>
          <a:stretch/>
        </p:blipFill>
        <p:spPr>
          <a:xfrm>
            <a:off x="5580000" y="4076640"/>
            <a:ext cx="2390760" cy="1914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http://people.ucalgary.ca/~ocf/images/cross.jpg"/>
          <p:cNvPicPr/>
          <p:nvPr/>
        </p:nvPicPr>
        <p:blipFill>
          <a:blip r:embed="rId3"/>
          <a:stretch/>
        </p:blipFill>
        <p:spPr>
          <a:xfrm>
            <a:off x="1547640" y="4149720"/>
            <a:ext cx="1440000" cy="21985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omic Sans MS"/>
              </a:rPr>
              <a:t>Bureaucrac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Comic Sans MS"/>
              </a:rPr>
              <a:t>Consisted of thousands of civil servants who ran the countr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Comic Sans MS"/>
              </a:rPr>
              <a:t>It was organised like an army into 14 ranks. At the top were Government ministers and at the bottom the minor officials like custom inspector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Comic Sans MS"/>
              </a:rPr>
              <a:t>Civil servants were often underpaid so accept bribes to help boost their inco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Comic Sans MS"/>
              </a:rPr>
              <a:t>Tsar did not tolerate anyone questioning his authority so he created a secret police, the Ochran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Comic Sans MS"/>
              </a:rPr>
              <a:t>The Ochrana saw that newspapers were censored, spied on political groups and had the power to punish and exi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" name="Picture 2" descr="http://studentsforliberty.org/wp-content/uploads/2012/10/bureaucrat_2.jpeg"/>
          <p:cNvPicPr/>
          <p:nvPr/>
        </p:nvPicPr>
        <p:blipFill>
          <a:blip r:embed="rId1"/>
          <a:stretch/>
        </p:blipFill>
        <p:spPr>
          <a:xfrm>
            <a:off x="539640" y="0"/>
            <a:ext cx="1871640" cy="20397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64a2"/>
                </a:solidFill>
                <a:latin typeface="Comic Sans MS"/>
              </a:rPr>
              <a:t>Arm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39640" y="213336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Comic Sans MS"/>
              </a:rPr>
              <a:t>The Russian army had the benefit of having a huge population to stock it with soldi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Comic Sans MS"/>
              </a:rPr>
              <a:t>It was known as the Russian “Steamroller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Comic Sans MS"/>
              </a:rPr>
              <a:t>The high ranking officers were from the nobility while the ordinary soldiers were from the peasant cla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2" name="Picture 2" descr="https://encrypted-tbn2.gstatic.com/images?q=tbn:ANd9GcRX0JBsMnAwYcGlbPkBb1AcReZ__6K3wERd2T2e4EIBNJEbuL1m"/>
          <p:cNvPicPr/>
          <p:nvPr/>
        </p:nvPicPr>
        <p:blipFill>
          <a:blip r:embed="rId1"/>
          <a:stretch/>
        </p:blipFill>
        <p:spPr>
          <a:xfrm>
            <a:off x="6372360" y="4700520"/>
            <a:ext cx="2771640" cy="1968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https://encrypted-tbn3.gstatic.com/images?q=tbn:ANd9GcSzxnKfg8x9EsfpeqvedFuHYph3FU4mC077C1JJoYwxVMhiwX9W"/>
          <p:cNvPicPr/>
          <p:nvPr/>
        </p:nvPicPr>
        <p:blipFill>
          <a:blip r:embed="rId2"/>
          <a:stretch/>
        </p:blipFill>
        <p:spPr>
          <a:xfrm>
            <a:off x="684360" y="260280"/>
            <a:ext cx="2016000" cy="1614600"/>
          </a:xfrm>
          <a:prstGeom prst="rect">
            <a:avLst/>
          </a:prstGeom>
          <a:ln w="0">
            <a:noFill/>
          </a:ln>
        </p:spPr>
      </p:pic>
      <p:sp>
        <p:nvSpPr>
          <p:cNvPr id="64" name="TextBox 5"/>
          <p:cNvSpPr/>
          <p:nvPr/>
        </p:nvSpPr>
        <p:spPr>
          <a:xfrm>
            <a:off x="395280" y="4292640"/>
            <a:ext cx="532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Comic Sans MS"/>
              </a:rPr>
              <a:t>The army was poorly trained and badly equipped so it could help keep the Tsar in power by brute force but would struggle against European arm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64a2"/>
                </a:solidFill>
                <a:latin typeface="Comic Sans MS"/>
              </a:rPr>
              <a:t>Russian Orthodox Churc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177336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Comic Sans MS"/>
              </a:rPr>
              <a:t>The Orthodox Church was the official Church of the Russian Empi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Comic Sans MS"/>
              </a:rPr>
              <a:t>Most Russians were very devout and would attend church regular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Comic Sans MS"/>
              </a:rPr>
              <a:t>The priests told the people that the Tsar was divinely appointed to be their Ruler and most people believed th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Comic Sans MS"/>
              </a:rPr>
              <a:t>The Church was very important in maintaining the loyalty of the people to the Tsa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Comic Sans MS"/>
              </a:rPr>
              <a:t>Nicholas pursued a policy of Russification which tried to unite the population under the church. This meant persecuting people of different faith like the Jews who suffered from pogrom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7" name="Picture 6" descr="http://people.ucalgary.ca/~ocf/images/cross.jpg"/>
          <p:cNvPicPr/>
          <p:nvPr/>
        </p:nvPicPr>
        <p:blipFill>
          <a:blip r:embed="rId1"/>
          <a:stretch/>
        </p:blipFill>
        <p:spPr>
          <a:xfrm>
            <a:off x="250920" y="189000"/>
            <a:ext cx="874440" cy="13348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1T16:13:59Z</dcterms:created>
  <dc:creator>Natalie1990</dc:creator>
  <dc:description/>
  <dc:language>en-US</dc:language>
  <cp:lastModifiedBy>sthcantleyn1</cp:lastModifiedBy>
  <dcterms:modified xsi:type="dcterms:W3CDTF">2013-08-14T07:51:59Z</dcterms:modified>
  <cp:revision>15</cp:revision>
  <dc:subject/>
  <dc:title>The Tsar’s Government</dc:title>
</cp:coreProperties>
</file>